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286-A84B-4013-9CBB-190350F5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4FD-5A1D-4102-9935-B31B0E27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48DE8-FC9E-401E-B5D0-3EB29AB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58FEE-48A8-4127-B1E9-E8AE6EA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2A922-8E6E-4D16-8AA0-E30AABA0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E99C8-02F6-4946-9C82-28129DF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77E1F-7456-4CD7-96BA-65AF9E1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94BF-BEA8-4908-97D7-3E1FC2D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83A80-2A43-4F74-B26B-F210337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EEC89-6EA7-4564-89EA-A72B4E85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B8530-7A4F-49F3-BAC8-67AA3847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51286-F647-430A-8E5C-33945683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A18-F080-4300-8459-D224BBC5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A4E39-89AD-49B8-80FA-C60C8B1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447D6-2CE7-4307-B3CD-9FF206FC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AD157-7E51-40BB-9B00-6C88A108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311AE-990F-4614-BE16-408E6EA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BD315-64A1-4FA8-AD1D-D76CA6BD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27593-6D3A-4228-A494-BD4A965E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753AC-A72F-47F3-97A7-7768D20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972EE-320D-4315-B6D1-33C80EC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2537A-F564-4FD8-8FC3-4BE1107C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A676D-F57A-4B80-9370-803BB68A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F01-6648-44AF-802E-9CFEF3D8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A1A1D-B4A2-4B72-98A4-120C909D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41207-BE50-4C65-9855-5B747D36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F3877-B419-405E-B70C-D031937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04010-717D-4778-AA19-D83B900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F892F-CED3-4686-AE41-D47CAF97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DA713-02DF-40B9-A659-EA67F477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11DC-A7B8-42D3-8CCE-54851256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CF6BE-5E4C-42F7-B4FF-76DF48B6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994AD-E392-49D3-97BD-86262712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B702D-BA4B-4186-86E8-48A9CD4D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5416-0CA3-4EA2-A913-5CD9F366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DD1A0-3643-4483-95C8-124F8F1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A33F7-61A7-40EC-8FB6-50B49E48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5CCAC-0B98-461B-AF18-D5A5EEC9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96833-4CD1-40AB-935A-6DEC60EA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077AF-8203-4C2F-9023-1301582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C78F1-0A86-48A7-8BE8-C4D72138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9B5A8-1F80-4C60-AEC1-F1F68C77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6CD23-292A-4AE4-81A6-ADF84040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7534F-12B1-4715-840A-BCADCF28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717F1-8542-4266-8745-FA96A9A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57CD-481F-43EB-B2EE-AB3F6B08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DB7EC-E299-409F-8583-590B1C34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93A63-62D3-43BE-BCB0-8BADEB6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62CD2-9E5A-4E42-BF4F-E95AF66A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02A2A-BBC6-4600-B3A9-F7DC61D9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C4F6F-4D52-4E8F-AD71-CAF5AD50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2BDB1-A90D-441F-A75B-A1D2365F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FAA3B-508D-43B3-86E2-9E0A3AE7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7C308-2C10-4706-B6CD-EA69CC3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C0251-77E8-4D46-8370-AC5C76A4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0B4BA-CAFE-4447-976E-6997413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7BD1-BC87-4206-8F57-A50A7DA4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E21E3-8CD5-486B-968E-FE07ED95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F808F-0AF1-4F7E-9C3C-B598183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C0FCC-1381-40E2-9BE0-A9477EC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9C511-4E49-4270-A06B-535CB2C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51135-D9F3-4C4D-892F-AFAAE151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07B8E-266D-4FF3-875D-B07C6F01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3136B-AEDA-4450-AE71-74FE46B0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B1E4D-F396-47A7-ABBD-208212D3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B4672-8D8A-4953-8038-9FBAABD3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5E203-1925-4674-B6EE-B826C10A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D35E-52FD-436C-8A50-419FBC29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7D0C5-D141-414B-8DB6-66CCCC8F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6121F-F115-414F-8D39-A4636EDB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509FB-D0D4-4EF2-93CC-2B496D1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26C16-9667-4BA3-8B88-220A5BB8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7D2F2-DB9B-4F00-9E7C-EE9B5E5F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8140D-92C0-4EF4-A722-9D2210E8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3943B-77D3-4013-AEBF-4677428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496D7-1046-4693-8C15-B96D33EF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DB52A-2E9A-4DCC-9627-8C28A621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3D3B8-45D7-4D61-B5FE-52D6AD28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445D-19D0-4057-87F4-5FE97198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37F0B-3B4E-42F6-9007-B3C95998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CE99C-922D-4C66-AE14-8838EED7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2C8BA-860E-4E9D-B156-35DCB11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49710-7E85-46AF-874F-E1B5818D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82BD9-A1D7-4BC4-812F-286D4067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F3232-4625-49E5-B4D1-734C48D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5E948-0E45-496F-AB55-1936A25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D4F7E-18AC-4912-A125-85883F55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A85D1-AA61-42AD-AA37-143509C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B6087-5BDF-44A0-B3F4-A1C6BA7C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B53-C556-405F-B475-A77C6F13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76AD7-BF47-4733-95E9-C6ABDE16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C2C98-56F6-4340-A04D-F3929FB5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6848A-B9D4-4790-8F4E-A74AE81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34918-97B8-46BA-AEF5-0C9BF89E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1602B-8481-4A4A-BF06-16048FD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5288B-BAC8-41B0-BFDC-DEDE2E8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D1E40-1E58-485E-AD73-10E17CF4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7CFA9-D167-4010-A1A7-37B3006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6D02C-877F-4A2D-9520-3852D9B6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50873-A663-4230-AFB8-EFF689D6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2E3C-794B-44EC-918A-556FB6F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6F48C-39C9-4A36-A929-DC7C6831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66D58-B2C4-46B9-A8EC-C588C363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E401A-72E7-4A9B-9628-644552D7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5851F-F92E-4D85-B663-63411F58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1F6B7-2825-4198-80C6-7B659E25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8258A-A04C-410B-9BC2-C8C29E4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59064-2B09-4121-AD3D-38687D5C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50F11-226E-46CA-8DCE-52D06E92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2D85C-7DF4-44C7-8A4B-40CBF6DD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9C5DC-5C81-452C-913C-493B14F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22E-78CA-4DBB-8868-694D5C9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190B-085B-41BE-97A4-09DCAC4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8CFBB-E8B8-40CB-BB63-F620984A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656F00-8A98-4126-B53B-67A5954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E264D-C0F7-4A67-89B0-B28CC446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16C62-889F-454F-85DD-FA4E115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890A5-26C6-46FC-9344-C73085D3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C220E-E90F-4FB0-A4F1-03855B4F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E1D26-8144-4101-A572-2A487CD6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55417-4FD3-4FFB-9B4A-C5778B2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543F9-B0EE-4398-A21D-8C46A854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145AB-AED3-4A20-B509-6B0FC624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A36A-2142-43A7-BFA4-EDF7E0D8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325E1-EDA6-4327-AF64-49E87AEF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A1D6E-529C-4CA7-9EFF-BF159FA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49385-E384-4645-9433-A8439A34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FFB3C-69E9-4900-96D7-7F1EB676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D7FA7-DDED-4BB2-AB69-6BD1A7F8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BD984-E834-4CFA-858B-ACE66F99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8785C-A10B-41DB-9BB3-680070E9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90F24-81CA-432A-A36F-50879D2C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D9D0A-B640-4931-921A-EA71811F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444075-C53C-4BC1-AD19-F9011FC6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E3F-5806-486E-95D0-49AC16CA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8E4EF-A0AE-4D26-8F11-748CA119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33793B-F03B-4D62-81AF-544373C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91627-26B5-47A9-970C-6BB462A8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521DA-3530-4F3E-A290-395564BD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80B18-BA2C-4062-89EC-8EF90CC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5E7BA-1643-4CD3-B6A4-0870C05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4B365-162E-41A3-B001-54261AF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AFD4A4-81BB-45B9-9668-10F480B1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7B330-BD61-4F88-B050-97B8A3B1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80B29-D323-4FB2-B879-00896550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B5D-20B6-4AB3-887C-5000F41A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6901C-4891-4647-8A54-FC3BC922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9B13C-2BA7-4673-B6CC-EE6225C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477AF-7A7E-4954-8C33-EC66200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8A5C7-4750-4036-B303-DC3B207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21CB9-9496-4A91-AFC6-4161E43D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24491-36FE-4095-9939-DFF5CD5E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5EE93-004A-430E-AA61-E71AB70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4BCE8-8C45-4479-9308-D57C6B6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C2D3E-DB6D-471B-BF31-D5CEF59F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3846AD-C93F-46D8-8725-2FB94AEB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F140-28B9-4954-8EEB-6B311203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BAA0FD-9E9F-490C-8D9E-349EFE15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B6F6A-DD8B-408B-BF8F-14E8D986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0F3AF-D840-445E-9E38-03078B6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A8A10-77AE-4B6C-B1CB-9FD6303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AB959-8A49-4829-91BB-24AF8F99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0CB49-960A-4F77-AF6A-D237090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45ED6-4C9A-4AFF-A13F-BE96A3A0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A5DDD-0E3F-4DD6-9104-35D577AB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72B08-8291-4ED5-95C6-CBE57E6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70358-83B9-4D90-B3F5-DD49C57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BE4D-5412-4680-8CB3-4B34B04D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D9FA2-E34E-4450-B207-920ADFA3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E1192-D04A-456A-BAC8-6795B80A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5299E8-4E82-4824-A66B-BD43557D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070D-D21A-44BE-B88E-F2A2FAF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3B24-DA79-44E2-A875-B458221A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C3A0-2C71-4594-99DB-7C1B271A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1CDA-4EAC-4334-A377-D35D4E7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D43-3E3C-4C32-A82D-DC2FBC61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4068-70FE-4810-ADDB-3A7770BF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6DFF-3433-4AA4-B1BA-F63B2573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62CF-9A85-4C0D-B8A6-7B7D7BF5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2B03-5E14-486C-8B9D-A9B45DB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B8D8-5FFB-4514-BAA2-02646880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5414-D2D1-46FD-901F-9B1F4596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C4F7-9BB4-416C-9DDA-BE79DD4A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8883-F139-40B6-A8F1-DCC2731B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AAA1-9041-4A7C-B504-362845CA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3D86-494A-42F6-A759-C3D89891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863-B9BD-4E3D-BD01-73DF756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6D6E-DB2D-4105-B498-67D8464A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360E-5FA3-413D-A61C-6B8CA230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E913-C4A7-477E-88B8-D7CDA66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B994-647D-43B5-99AB-4547A9BC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143F5-F4C8-4142-BAA8-5233E0AB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E74B-F938-42A1-B1BA-B59E9A8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5F54-267B-4AD1-AB44-8787A7C0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F8BF-9625-4DF3-A113-83259911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869C-D86F-49F4-9429-C04ECEEB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CFA5-85BD-4988-919E-25135E86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97B-ECE9-44B9-9099-9CC05A5E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BD95-FAB8-40A9-AD15-CE73812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BFA8-457F-4296-A1A9-31FC7494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216F-1459-495F-8D89-425F099E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250E7-D2A9-4184-B737-63CE5A28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66A0-8E70-42AC-B5FF-723C39D7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BF5B-BA18-4B1A-B183-60936EC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9217E-382A-4DB2-A53A-AD9932B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FD7C8-2CCC-4211-8C6C-40CDDB8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6A23-C7CA-41ED-A4E2-8CFF99D2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02B4F-B5F7-4A7C-BC98-162B85BB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EBF-65B5-45EE-AB2E-683C7C24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65AF-0040-42CE-B5F3-B839189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E730-4898-4B76-BD46-F4E6C69B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E83B4-A578-402B-BAB2-15000F6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37A3-8831-437B-930A-07C1B36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07D59-6B49-4D32-A02A-18716F78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AC8A5-A734-4CFB-BD47-70727067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BD53-E74E-4EB0-9E4F-D7BAEA9A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4D339-ECD3-4662-9308-5337B5E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D0391-F935-40E2-BCC5-0ECA0C4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8C43-241D-44A9-9676-DBC4A99F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6B0-E4E0-4A2A-B8D3-19F31F3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B5C5-5234-474B-BFA0-2D792E73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9590A-8269-4AD6-B5FB-85CD9648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221F-39BD-43EE-89B6-A65E32C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D846-A134-4DEE-89CC-19D9AF17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6CDC4-DAF9-4BB9-A999-EB14C24B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9E485-ED8B-4918-8707-78FE5A3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A1B7-58F3-41A0-9919-A7F76D76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2F76-3409-4160-B826-273003DB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6294-78BF-4D23-8194-20859C9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B9DE3-B18C-41C6-8D9E-4C78DF6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4EF-CED2-4AFC-9213-D196267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9D6D-DA43-4337-9613-1216AF0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85A60-6F18-4EBE-BB44-682DE43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5F34-2B96-4C89-9D34-6752AFF0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E0AD0-9406-44F8-86DE-847BBD69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E098-D9B5-4875-8EA7-399C3BF6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99AE2-D19C-4206-B157-F7A38B1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CAE31-ABA0-4E7F-AB86-57A460D2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77D85-3156-4698-B3F3-A2FFCB6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AFA68-6D39-4EBB-93D8-11BDB53D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E04D8-358D-4FF8-9A4F-D5874992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B62-F52A-488D-BB35-AECE7CC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590B2-F54F-43F9-A4CF-D57D0C62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9F5AE-85FE-451E-B0B2-7E4853A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64F6B-F0F1-4344-B678-6124664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507E-08D5-4E5A-AEAE-616530E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BE489-9CB8-42DE-915C-60AE003A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E6C4-BB19-46BC-90A7-F7862BAB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CC1D-10AC-4E49-BCE5-CD674C08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DAEB9-F7E4-43A5-9F5E-3C7C3F43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CC71-22D8-43E2-AA73-A0F17FB2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14F53-BA67-46A0-80FB-F74F21C1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219C-4869-44AF-AF84-9CCF049C0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FE04-9658-402A-99E8-03FEDAEF1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46D-0067-476A-9C99-4D034C9FA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7322-1D89-4C72-841B-31BED1214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FBD-6624-4E0B-BBD6-8555809DCC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0DD9-D18F-48B1-BE9A-94A52D75D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B437-EBF8-4912-992F-B9C4BDE79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096-1AF9-4D39-AD97-9043AA68A4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6187-9C84-4371-AB77-33832E18CC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5642-2A23-442D-9BC2-625A3C418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AD9-1CB6-497D-8728-FB2F55122A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B33-4D35-42B5-B688-E46604FFD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D27C-F425-4485-97F1-4931CCD126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338-D75E-4865-92F5-F0EFD473B3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302C-0EA1-49EA-9A50-1F120D57D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1112-D276-46CE-AB49-8630AAE11A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DAEB-44D4-44E1-B340-83C8FBEF1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9D9-D14B-4315-A349-F1FB37FD6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FF6-9527-4779-A2BB-EAB19DD4C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5F8E-C8C3-4422-AEA1-518A8AC47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0DFF-8B39-41D3-B980-6ED0AEA7E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0A63-2473-4428-860D-A1C1F565C1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DD94-59FE-4F80-9127-A04FC0344E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4A7-0903-4414-AFE3-141AA898D0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30A3-37C6-40A9-B7A5-084ED9377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C89-0F41-443C-AE5A-25D2E161E8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1C6A-6D03-4134-B1CD-F88F73FA0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3CA-53BF-479D-BEC6-6AFA4C844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B9F4-4DF3-4A47-9232-45F001351D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CA42-820A-48BC-BF42-221197994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428-EB66-43A0-A4E6-F0B49DCAA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7FF-DC78-4DBE-8FA0-6668771030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2B37-1BB4-48FD-A0F6-767A7DDB1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DFA6-63F6-4B9E-9DF5-A99B1ABD43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2D98-5F6D-4A4B-B240-7EAC6EA0A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0B58-423E-4B7B-AFE0-CADBEF766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4344-C062-4EF2-9F6B-558BD86E4D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0F9-A859-4198-A866-1E875011E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2C14-997E-47DA-9242-4D1BED1DF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843F-B1A0-4A3E-9981-59695FDFA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2900520"/>
            <a:ext cx="45813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1714680" y="1781280"/>
            <a:ext cx="5715000" cy="32954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979640" y="1816200"/>
            <a:ext cx="4105080" cy="936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692360" y="2952720"/>
            <a:ext cx="540072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476360" y="3716280"/>
            <a:ext cx="540072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835280" y="4394160"/>
            <a:ext cx="540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6337080" cy="865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908000" y="4795920"/>
            <a:ext cx="583272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763640" y="5445000"/>
            <a:ext cx="58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719280" y="1990800"/>
            <a:ext cx="7705440" cy="2876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971640" y="4048200"/>
            <a:ext cx="756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66760" y="219240"/>
            <a:ext cx="8610480" cy="641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453708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453708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95280" y="5084640"/>
            <a:ext cx="453708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539640" y="5675400"/>
            <a:ext cx="727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24000" y="676440"/>
            <a:ext cx="8496000" cy="5505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971640" y="2824200"/>
            <a:ext cx="626436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6264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11280" y="4119480"/>
            <a:ext cx="6264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626436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11280" y="5445000"/>
            <a:ext cx="62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534160" cy="5086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2449440"/>
            <a:ext cx="540072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755640" y="3184560"/>
            <a:ext cx="5400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828720" y="3846600"/>
            <a:ext cx="5400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84360" y="4581360"/>
            <a:ext cx="5400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755640" y="5329080"/>
            <a:ext cx="540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81160" y="1976400"/>
            <a:ext cx="85816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2231" descr=""/>
          <p:cNvPicPr/>
          <p:nvPr/>
        </p:nvPicPr>
        <p:blipFill>
          <a:blip r:embed="rId1"/>
          <a:stretch/>
        </p:blipFill>
        <p:spPr>
          <a:xfrm>
            <a:off x="604800" y="995400"/>
            <a:ext cx="7934400" cy="4867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826920" y="1168560"/>
            <a:ext cx="51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5184720" cy="936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468360" y="4508640"/>
            <a:ext cx="8424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324000" y="5229360"/>
            <a:ext cx="5184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281160" y="1100160"/>
            <a:ext cx="8581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2:2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